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3AB-680F-4160-91DC-28CB847B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F6D-4857-447D-A5E6-C8DDBF47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7B8-E5E0-4A33-85FC-E68DD1C4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B25-6F7A-4B96-A9D5-10BD9C9F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E6A-7BEB-4A3C-8DEE-55D88C3B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A9D-A12E-4A6D-B68C-3676CB21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5C0-656F-49FE-B3DE-FEB38EFA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7F8-422C-46CA-98F5-25C985EE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83C-BC2D-4AB0-892D-D0BB4288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DCA-675A-4770-B5B2-3A45905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458-E6E3-4967-917D-1CC9461A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09C-2ACF-4101-B1B7-6249869E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4AA1-6B62-414E-A515-ED96FA3A797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Depositional Featur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l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ltas occur where a river that carries a large amount of sediment meets a lake or the sea. This meeting causes the river to lose energy and drop the sediment it is carryin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ltas form two types, call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rcu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irds foot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arcuate delta is one, which builds out into the sea, extending the coast line, as the Nile Delta does in Egypt. A bird's foot delta is an extension of this a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“fingers”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material form further off the edge of the delt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elta of the Mississippi river shows these characteristic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lood Pl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ood Plain is the area of alluvial deposits found beside the river in its lower cour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meanders move slowly down the course of the river they erode away the valley to create a wide valley floor, and they deposit layers of alluvial material on the slip off slop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time this builds up into a large flood pl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ery good example is the Canterbury Plains in New Zealand, where many large rivers have contributed to a huge area of alluvial deposition that has become prime agricultural 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ev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vees are naturally formed banks along the sides of a river channel in its lower course, as it flows through the flood plai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are formed by the river depositing material when it floo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uring a flood the river deposits its heaviest, coarsest material closest to its normal cours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years this deposition has built up the natural embankments, built of coarse materia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yond them the flood plain has been built up of the finer material that was deposited further away from the normal course of the riv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lab.visual-logic.com/wp-content/uploads/2010/02/levee2.jpg"/>
          <p:cNvPicPr/>
          <p:nvPr/>
        </p:nvPicPr>
        <p:blipFill>
          <a:blip r:embed="rId1"/>
          <a:stretch/>
        </p:blipFill>
        <p:spPr>
          <a:xfrm>
            <a:off x="1857240" y="115920"/>
            <a:ext cx="53294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eature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119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pe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ddle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e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locking spurs, waterfalls, V-shaped valley, gorg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ders, Slip-off slopes, ox-bow lak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tas, flood plains, levees, meanders, ox-bow lak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o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ely slow moving. Despite areas of fast flowing water, the large amount of material on the river channel bed means that friction will slow the water dow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ater has increased in speed as the channel widens and becomes smoother. Some boulders cause friction to slow it down a litt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astest section of the river, as the channel is widest, with very smooth sides, and the greatest volume of wa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2:31:54Z</dcterms:created>
  <dc:creator>Dell_02</dc:creator>
  <dc:description/>
  <dc:language>en-US</dc:language>
  <cp:lastModifiedBy>Dell_02</cp:lastModifiedBy>
  <dcterms:modified xsi:type="dcterms:W3CDTF">2011-01-26T22:44:56Z</dcterms:modified>
  <cp:revision>2</cp:revision>
  <dc:subject/>
  <dc:title>Depositional Features</dc:title>
</cp:coreProperties>
</file>